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a66ac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8A2F-CE1A-45E0-869A-24673CC7C3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43FD-2ED2-4C76-BBE3-127634017F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C9EB-01AB-4322-A89C-87C8D93A6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7BD8-11FF-4BEE-B5E5-CC549294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EBBB-F65C-4B98-BD40-CA2100C76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9498-2372-4894-8FA2-155018FF4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B4C9-A391-4FBC-BF3C-178789340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0C44-E91A-4C81-B365-6608A7F6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AAE2-640E-47C7-B48F-9133467B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98A6-706A-4775-BFE2-592AF060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4D71-7FF6-4348-A30E-EDDCDB86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FF27-F73D-46B9-B395-182F490B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CC2C-2F3A-486A-8C28-989F7528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D244-7313-47C7-BFBD-8C3C4A73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527C-5850-4D65-930F-C9351599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284F-0589-4C0D-8BDA-AC76F04E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7C75-4490-4B70-A1F3-1D7B954C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1FE4-481B-470F-A6B4-24C65AB09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AB749-5D9A-48E3-9DF5-A9D2924B6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D4267-98B8-441F-ABE6-ECC8F59E4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5D82E-9585-46CC-B840-21F93231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E6A1B-66DE-47C4-A552-1FDAE6F2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EDAB0-E5D8-4878-ADC9-5078475E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80010-BE5F-4A8D-9BDA-21B34A33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9142-1AE4-4F17-AA82-B9EE9B56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83A82-7C26-477A-9F56-4D58CDDB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078E3-0971-409B-9D14-BCF32DE6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67FC6-070C-41C4-9986-62BBEEB8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F7279-DA0B-4512-9F98-973B3CF0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3A8BD-F39D-4161-B810-18670739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3C1C3-1E5A-4BC2-B585-6774D6BF3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8F7E0-26C0-4C42-973D-75DDEFE49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54B83-4FFA-43DA-B022-8B042B9E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A88F8-D2F2-48E5-B243-62D776BF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7F241-9E71-4B08-A0E2-34773E12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A609-DC40-4AEC-BC33-19740D14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062BB-2F57-48E9-A8D2-CE4C8996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F49CB-D4ED-415A-A776-6194B615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4526E-7BC5-41CF-8F5D-275A6035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4FCC3-0B56-491B-9D24-4AB9E69F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612D3-6BB5-427E-A097-FBDBDF26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34F2F-D2F3-4130-AE87-E26F5D55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8EE36-5E7A-4A98-8F7A-AD270672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B2EBA-A1EC-43E7-BF13-CE1E61C67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B2146-54FE-400A-8D60-A9B45E593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D48C-D32F-4F12-8C4B-E5D185AC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A7C4-DD97-4973-8DFF-871480CB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8A74-4C22-4C5A-BFF7-A76CC84F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E8D7-24BB-4D0A-ACEE-75E41EF6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7B6F-8FA5-4125-9067-BB0CAFDD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a66a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a66a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629dd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77b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90a2c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a66a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a66ac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7B13-68B2-45BD-8F91-285B251D7D39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a66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B897-4CD8-4AC9-837F-52DFB9082B85}" type="slidenum">
              <a:rPr b="0" lang="ru-RU" sz="900" spc="-1" strike="noStrike">
                <a:solidFill>
                  <a:srgbClr val="4a66a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a66a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629dd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77b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90a2c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a66a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4a66a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a66ac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DCA5-B848-46F1-8D69-58F06A18D7EF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a66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6EAE-4CC7-4A51-93EA-0D57AA6CFE43}" type="slidenum">
              <a:rPr b="0" lang="ru-RU" sz="900" spc="-1" strike="noStrike">
                <a:solidFill>
                  <a:srgbClr val="4a66a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a66a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a66a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629dd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77b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90a2c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a66a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a2c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a2c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a66ac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F7E1-8390-444A-9096-CD6DA18A7567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a66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F784-09D4-497F-BC16-52C37900472A}" type="slidenum">
              <a:rPr b="0" lang="ru-RU" sz="900" spc="-1" strike="noStrike">
                <a:solidFill>
                  <a:srgbClr val="4a66a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a66a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a66a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629dd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77b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90a2c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a66a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a2c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a2c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a66ac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CE12-DE64-4887-9509-EBDEE9247537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a66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651E-C1AC-4E88-B646-BA36E22AF2CB}" type="slidenum">
              <a:rPr b="0" lang="ru-RU" sz="900" spc="-1" strike="noStrike">
                <a:solidFill>
                  <a:srgbClr val="4a66a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a66ac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  <a:ea typeface="Arial"/>
              </a:rPr>
              <a:t>Разработка стратегии бизнес-уров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Интеграция стратегий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Основополагающая конкурентная стратегия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олжна основываться на использовании основных идей базовых стратегий. В последнее время успеха добиваются компании нового типа, делающие ставки на соче­тание высокой производительности и высокого уровня дифференциа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План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нятие и цель бизнес-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курентные преимущества и ключевые факторы успех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азовые стратегии по М. Портеру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нтеграция деловых стратеги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Бизнес-стратегия – это 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бор стратегической ориентации фирмы, являет­ся выбором базовой стратегии конкуренции относительно определенной сферы бизнес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Стратегическая цель фирмы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выделяет целевой рынок и, соответ­ственно, масштаб конкурен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Конкурентные преимущества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это способность организации производить и продавать свою продукцию (услуги) успешнее конкуренто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ывают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нутреннее конкурентное преимущество (способность произвести товар аналогичный товарам конкурентов с более низкими затратами)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нешнее конкурентное преимущество (способность придать товару большую ценность в глазах потребителей, за которую они готовы платить более высокую цену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акие конкурентные преимущества легче защитить на рынке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Ключевые факторы успеха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факторы внутренней среды, которые позволяют организации достичь успеха на рынк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ывают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ехнологически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изводственны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аркетинговы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чие (логистика, управление персоналом, инновации и т.п.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ФУ различны для различных отрасл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Базовые стратегии по М. Портеру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pic>
        <p:nvPicPr>
          <p:cNvPr id="236" name="Picture 2" descr="image3"/>
          <p:cNvPicPr/>
          <p:nvPr/>
        </p:nvPicPr>
        <p:blipFill>
          <a:blip r:embed="rId1"/>
          <a:stretch/>
        </p:blipFill>
        <p:spPr>
          <a:xfrm>
            <a:off x="571680" y="1928880"/>
            <a:ext cx="7916760" cy="4429080"/>
          </a:xfrm>
          <a:prstGeom prst="rect">
            <a:avLst/>
          </a:prstGeom>
          <a:ln w="0">
            <a:noFill/>
          </a:ln>
        </p:spPr>
      </p:pic>
      <p:sp>
        <p:nvSpPr>
          <p:cNvPr id="237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Стратегия лидерства по издержкам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ирма пренебрегает различиями в сегментах и обращается ко всему рынку сразу с одним и тем же товаром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зготовлении стандартной продукции массового спроса, когда возможности дифференциации ограничены и спрос эластичен по цене, а вероятность переключения потребителей товара на другие велик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Дифференциация -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цепция, описывающая разнообразие предложен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Ценность для покупателей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— это полезность или полное удовлетворе­ние, которое они получают при использовании товара, а также мини­мальные операционные издержки в течение всего срока его служб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По характеру направленности 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можно выделить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инновационную и маркетинговую стратегии дифференциа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Фокусирование - 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иповая бизнес- стратегия, которая предполагает концентрацию на узком рыночном сегменте или конкретной группе покупателей, а также специализацию на определенной части продукции и/или географическом регион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Основная цель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заключается в удовлетворении потребностей выбранного сегмента с большей эффективностью, чем конкуренты, обслуживающие более широкий рыночный сегмент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9T11:29:35Z</dcterms:created>
  <dc:creator>И.В.</dc:creator>
  <dc:description/>
  <dc:language>en-US</dc:language>
  <cp:lastModifiedBy>Стародумова Инна</cp:lastModifiedBy>
  <dcterms:modified xsi:type="dcterms:W3CDTF">2015-09-29T02:30:43Z</dcterms:modified>
  <cp:revision>14</cp:revision>
  <dc:subject/>
  <dc:title>Разработка стратегии бизнес-уровня</dc:title>
</cp:coreProperties>
</file>